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C5DC-BCE6-4CDD-A782-2873A788CFFA}"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2160" y="768240"/>
            <a:ext cx="5114880" cy="3837240"/>
          </a:xfrm>
          <a:prstGeom prst="rect">
            <a:avLst/>
          </a:prstGeom>
          <a:ln w="0">
            <a:noFill/>
          </a:ln>
        </p:spPr>
      </p:sp>
      <p:sp>
        <p:nvSpPr>
          <p:cNvPr id="1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7674-9613-4287-B73D-93CA79479B7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7504-1E99-48BD-B62A-1A58F56F460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DE33-473C-4E89-B0EA-E254BB03F3E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C11F-EB8C-487F-87D8-023042923A4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1BC1-5FA1-4354-96B1-75DB088F2F0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AADA-94DB-49A1-A875-0796110C579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6F1C-2CF3-4C7B-AF99-99DF307C779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AC35-B896-4C29-884D-42B21118AA4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2160" y="768240"/>
            <a:ext cx="5114880" cy="3837240"/>
          </a:xfrm>
          <a:prstGeom prst="rect">
            <a:avLst/>
          </a:prstGeom>
          <a:ln w="0">
            <a:noFill/>
          </a:ln>
        </p:spPr>
      </p:sp>
      <p:sp>
        <p:nvSpPr>
          <p:cNvPr id="1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AEDE-1B9F-4FEB-AED3-A77A34A803C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88DE-073C-4B2B-8369-FB48BBA41D2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664B-87FB-4B7E-8790-3E57829AF0F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EF05-A2B6-4012-B468-0517C9C902D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2160" y="768240"/>
            <a:ext cx="5114880" cy="3837240"/>
          </a:xfrm>
          <a:prstGeom prst="rect">
            <a:avLst/>
          </a:prstGeom>
          <a:ln w="0">
            <a:noFill/>
          </a:ln>
        </p:spPr>
      </p:sp>
      <p:sp>
        <p:nvSpPr>
          <p:cNvPr id="1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838B-0683-4D10-9BF5-E711B87A935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2160" y="768240"/>
            <a:ext cx="5114880" cy="3837240"/>
          </a:xfrm>
          <a:prstGeom prst="rect">
            <a:avLst/>
          </a:prstGeom>
          <a:ln w="0">
            <a:noFill/>
          </a:ln>
        </p:spPr>
      </p:sp>
      <p:sp>
        <p:nvSpPr>
          <p:cNvPr id="1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4F17-2D7E-4F5E-84E8-8A025F84780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4880" cy="3837240"/>
          </a:xfrm>
          <a:prstGeom prst="rect">
            <a:avLst/>
          </a:prstGeom>
          <a:ln w="0">
            <a:noFill/>
          </a:ln>
        </p:spPr>
      </p:sp>
      <p:sp>
        <p:nvSpPr>
          <p:cNvPr id="1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15D9-4FAF-4576-8DAE-B15C19CE57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2160" y="768240"/>
            <a:ext cx="5114880" cy="3837240"/>
          </a:xfrm>
          <a:prstGeom prst="rect">
            <a:avLst/>
          </a:prstGeom>
          <a:ln w="0">
            <a:noFill/>
          </a:ln>
        </p:spPr>
      </p:sp>
      <p:sp>
        <p:nvSpPr>
          <p:cNvPr id="1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E9DE-A767-44E4-9B56-2B46F60CA9C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4880" cy="383724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91F2-208A-47D7-884D-3BB05E734EA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4880" cy="383724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7373-B7AA-4903-8C93-B72E475CA67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4880" cy="383724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5BBE-D342-46F3-832D-CE992D5FA54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CE8FA-F0CA-4AFD-B54B-88645B02C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D10D-E90A-4FA3-9A8F-3D29D75D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87508-7A4C-43E4-91FC-A53391896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84074-6AE1-48E3-B1CF-5E22FDE05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050D9-1996-430E-9D9F-EFC307948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A5062-7BBC-46DC-AF1C-7BB303B1F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8EA07-F2B2-4820-826B-82EF07773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5D836-45B0-4C4C-90F5-00DFBB7DB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B21C8-AC94-47CD-962C-899973CB3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65805-C414-4FED-A670-39CACBA6A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02BF1-C147-4DB0-9354-91CF2BC0D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E285C-B5A6-4DF1-AC3E-2E346CA1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C1021-5C30-4386-9BC5-A43A631A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D2A20-1518-48BE-9227-7F41E7F2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3CBBD-41E1-4C53-8C5F-21A1E7349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8AB35-A662-405A-A6C8-F1CEB9AA3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D6E3E-1006-45B4-813F-1FE56A25B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1AF1-6A20-47EF-8992-05A419CA0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D7416-F449-4E87-94E1-BB37F6786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FF041-0468-4080-9E3A-7018B488F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63C2-E160-4B9A-BE2C-3E0FAE751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3E71-94F5-476A-B54D-B99501CEE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0B1F8-D4B8-448C-9A20-36B2A1B2D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AC06-BBD9-4F4F-A948-47E19903A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AD05-4739-43EF-ADBA-72D8FCA5D573}"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B56A-B8F6-4A18-8908-E73E466732AA}"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oecd.org/document/42/0,3343,en_2649_35845581_36507370_1_1_1_1,00.html" TargetMode="External"/><Relationship Id="rId2" Type="http://schemas.openxmlformats.org/officeDocument/2006/relationships/hyperlink" Target="http://www.oecd.org/dataoecd/2/21/37811524.pdf" TargetMode="External"/><Relationship Id="rId3" Type="http://schemas.openxmlformats.org/officeDocument/2006/relationships/hyperlink" Target="http://portal.organic-edunet.eu/index.php?option=com_scenarios&amp;view=scenarios&amp;Itemid=123" TargetMode="External"/><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2</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aboration of Organic Farmer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Description </a:t>
            </a:r>
            <a:endParaRPr b="0" lang="en-US" sz="32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im of this session?</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your training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the training activities of your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do that?</a:t>
            </a: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provided templat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ll-in all required information</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your imagin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29"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0"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32"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34"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197000"/>
            <a:ext cx="8229600" cy="4929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are the steps?</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of an innovative, descriptive title</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 short description of your scenario</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dditional information, as required</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detailed description for each training activity</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silis &amp; Babis will help you in every step!</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40"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42"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and developing a scenario is not as hard as it seem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ably the hardest part is to come up with an original ide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ing your scenario idea with training activities will help you in the description of your scenari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45" name=""/>
          <p:cNvSpPr txBox="1"/>
          <p:nvPr/>
        </p:nvSpPr>
        <p:spPr>
          <a:xfrm>
            <a:off x="571680" y="1643040"/>
            <a:ext cx="8424720" cy="3929040"/>
          </a:xfrm>
          <a:prstGeom prst="rect">
            <a:avLst/>
          </a:prstGeom>
          <a:noFill/>
          <a:ln w="0">
            <a:noFill/>
          </a:ln>
        </p:spPr>
        <p:txBody>
          <a:bodyPr anchor="t">
            <a:normAutofit fontScale="83000"/>
          </a:bodyPr>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School Level (http://confolio.vm.grnet.gr/scam/6/resource/285)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University Level (http://oe.confolio.org/scam/34/resource/296) </a:t>
            </a:r>
            <a:endParaRPr b="0" lang="en-US" sz="1800" spc="-1" strike="noStrike">
              <a:solidFill>
                <a:srgbClr val="000000"/>
              </a:solidFill>
              <a:latin typeface="Calibri"/>
            </a:endParaRPr>
          </a:p>
          <a:p>
            <a:pPr marL="284400" indent="-2844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ECD (2006) Think Scenarios, Rethink Education. ISBN: 926402364X. (</a:t>
            </a:r>
            <a:r>
              <a:rPr b="0" lang="en-GB" sz="1800" spc="-1" strike="noStrike" u="sng">
                <a:solidFill>
                  <a:srgbClr val="0000ff"/>
                </a:solidFill>
                <a:uFillTx/>
                <a:latin typeface="Calibri"/>
                <a:hlinkClick r:id="rId1"/>
              </a:rPr>
              <a:t>http://www.oecd.org/document/42/0,3343,en_2649_35845581_36507370_1_1_1_1,00.html</a:t>
            </a:r>
            <a:endParaRPr b="0" lang="en-US" sz="18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ussois, J-M (2006) “Key Variables for Educational Scenario Analysis”, in Think Scenarios, Rethink Education, OECD/CERI. Retrieved online from </a:t>
            </a:r>
            <a:r>
              <a:rPr b="0" lang="en-GB" sz="1800" spc="-1" strike="noStrike" u="sng">
                <a:solidFill>
                  <a:srgbClr val="0000ff"/>
                </a:solidFill>
                <a:uFillTx/>
                <a:latin typeface="Calibri"/>
                <a:hlinkClick r:id="rId2"/>
              </a:rPr>
              <a:t>http://www.oecd.org/dataoecd/2/21/37811524.pdf</a:t>
            </a:r>
            <a:r>
              <a:rPr b="0" lang="en-GB" sz="1800" spc="-1" strike="noStrike">
                <a:solidFill>
                  <a:srgbClr val="000000"/>
                </a:solidFill>
                <a:latin typeface="Calibri"/>
              </a:rPr>
              <a:t> on March 2nd, 2011.</a:t>
            </a:r>
            <a:endParaRPr b="0" lang="en-US" sz="18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Organic.Edunet educational scenarios: </a:t>
            </a:r>
            <a:r>
              <a:rPr b="0" lang="en-US" sz="1800" spc="-1" strike="noStrike" u="sng">
                <a:solidFill>
                  <a:srgbClr val="0000ff"/>
                </a:solidFill>
                <a:uFillTx/>
                <a:latin typeface="Calibri"/>
                <a:hlinkClick r:id="rId3"/>
              </a:rPr>
              <a:t>http://portal.organic-edunet.eu/index.php?option=com_scenarios&amp;view=scenarios&amp;Itemid=123</a:t>
            </a:r>
            <a:r>
              <a:rPr b="0" lang="en-US" sz="1800" spc="-1" strike="noStrike">
                <a:solidFill>
                  <a:srgbClr val="000000"/>
                </a:solidFill>
                <a:latin typeface="Calibri"/>
              </a:rPr>
              <a:t>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2, Elaboration of OrganicFarmer Scenario Description</a:t>
            </a:r>
            <a:endParaRPr b="0" lang="en-US" sz="1400" spc="-1" strike="noStrike">
              <a:solidFill>
                <a:srgbClr val="000000"/>
              </a:solidFill>
              <a:latin typeface="Arial"/>
            </a:endParaRPr>
          </a:p>
        </p:txBody>
      </p:sp>
      <p:sp>
        <p:nvSpPr>
          <p:cNvPr id="100" name="TextBox 3"/>
          <p:cNvSpPr/>
          <p:nvPr/>
        </p:nvSpPr>
        <p:spPr>
          <a:xfrm>
            <a:off x="6119640" y="6093000"/>
            <a:ext cx="3060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Charalampos Thanopoul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48"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the progress of each participant in the tasks assigned by the unit, e.g. the successful description of both the training scenario and its activitie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51"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3: 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pport scenarios</a:t>
            </a:r>
            <a:endParaRPr b="0" lang="en-US" sz="3200" spc="-1" strike="noStrike">
              <a:solidFill>
                <a:srgbClr val="000000"/>
              </a:solidFill>
              <a:latin typeface="Calibri"/>
            </a:endParaRPr>
          </a:p>
        </p:txBody>
      </p:sp>
      <p:sp>
        <p:nvSpPr>
          <p:cNvPr id="152"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154" name="Text Box 5"/>
          <p:cNvSpPr/>
          <p:nvPr/>
        </p:nvSpPr>
        <p:spPr>
          <a:xfrm>
            <a:off x="0" y="3716280"/>
            <a:ext cx="914400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thanopoulos@agroknow.gr]</a:t>
            </a:r>
            <a:endParaRPr b="0" lang="en-US" sz="3200" spc="-1" strike="noStrike">
              <a:solidFill>
                <a:srgbClr val="000000"/>
              </a:solidFill>
              <a:latin typeface="Arial"/>
            </a:endParaRPr>
          </a:p>
        </p:txBody>
      </p:sp>
      <p:sp>
        <p:nvSpPr>
          <p:cNvPr id="155"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 Charalampos Thanopoulos is a Scientific Associate in Agro-Know.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olds a diploma in Horticulture (Specialization in Vegetable crops)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certified trainer of farmers in professional training programmes of Greek Ministry of Food and Rural Develop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lso a Scientific Associate of Agro-Know Technologies and he has a strong experience in the development of online learning resources for agricultural topics, involved in EU research projects in the fields of vocational education and training.</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the participants with the appropriate templates in order to facilitate the description of their training scenarios (WS1a) and the training activities of their scenarios (WS1b)</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developing their own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larify any issues that are not clear to the participants, regarding the training scenario developmen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overall image of the development of the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described both the curriculum and the training activities of their training scenari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hands-on exercis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Training Scenarios: Templates for describing the curriculum, scenario and training activiti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scription of the participants’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Discussion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provide a glossary of any unfamiliar terms introduced in this unit</a:t>
            </a:r>
            <a:endParaRPr b="0" lang="en-US" sz="24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3:50Z</dcterms:modified>
  <cp:revision>129</cp:revision>
  <dc:subject/>
  <dc:title>Organic.BalkaNet</dc:title>
</cp:coreProperties>
</file>